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219-9430-4E6E-A23E-E39E4819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F68-35C6-4234-8EB8-1E2B909C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D22-AE9B-448D-8A00-7E58D74B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710-50B1-45F0-B3E2-BFD17A18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DFC-2D1E-43EC-A642-446ECF07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4B1-FF48-430F-8DD9-AAA150F9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62A-2E1E-448C-BF11-DAE74E4B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7DD-482F-4A9E-A6D6-68FEBB32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277-FEEC-4F17-9844-A58D1C0B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93F-9374-4DD5-A524-46854B0F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ED9-B4BD-47A2-9755-1ABD4E69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0DC-46DB-4B63-8E3A-E90F45AC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FBD8-8E7C-47DF-B9D7-F55E2BE7B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582370xalGHMKHkU_ph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5234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6386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د وقفتْ أقدامُنا في أبوابِكِ يا أورشليمُ،</a:t>
            </a:r>
            <a:br>
              <a:rPr sz="3800"/>
            </a:b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ليكِ صَعِد شعبُ اللهِ حَسَبَ دعوتِهِ ليَحمدَ اسمَ الر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1368130RjrjRHULen_ph" descr=""/>
          <p:cNvPicPr/>
          <p:nvPr/>
        </p:nvPicPr>
        <p:blipFill>
          <a:blip r:embed="rId2"/>
          <a:stretch/>
        </p:blipFill>
        <p:spPr>
          <a:xfrm>
            <a:off x="-213372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380880"/>
            <a:ext cx="2895480" cy="72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ناكَ نُصِبَ عرشٌ للحكمِ عرشُ الربِ بين شعبِهِ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نسألِ السلامَ للمؤمنينَ ليَسعدِ الذينَ يُحبُّونَه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38761956sSGxS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410080"/>
            <a:ext cx="8915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جل إخوتي وأخِلاَّئي أدعو بالسلامِ والبَرَكة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جلِ بيتِ الربِّ ألتمِسُ الخيرَ فلنباركِ اللهَ كلُّ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2-08T06:32:14Z</dcterms:modified>
  <cp:revision>4</cp:revision>
  <dc:subject/>
  <dc:title>PowerPoint Presentation</dc:title>
</cp:coreProperties>
</file>